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C23-FCCF-4EDD-9272-B2DC13DD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700-92E6-4D72-B35D-794FEFE0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443-B866-45D0-95D6-A623E019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931-C40B-4B36-AD6D-7CD3436F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E2FE-9440-4058-B19C-4A4D4EA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5A0-37AA-41E6-8449-C408010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42EB-3C19-4A93-9918-59AD480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CCE0-2E7C-4733-80BE-67E23AA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C9BB-8690-4C84-8A64-090C0863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F66-8A62-4D10-B113-63641005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8890-79E8-4E2E-8659-C2732E8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ED1-6076-4870-A807-C112E02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579-648C-4A34-A9C4-54431606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81CB-9B48-4F93-B8C0-591E60A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89AC-00AF-4B14-8FB6-33A31D5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305D-3587-4DF0-84CB-81914893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3DEA-E1C9-4094-9357-57211211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43E-9E5E-4D41-B0C5-AC980018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98E-42B1-4996-BD23-03FC95A2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A86-800C-40D0-AFEE-6DBEE79F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721-98AF-449F-8438-E02162DD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90C-3F0D-49CC-8F3A-E22D6ED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F8D-72B5-413F-BAE2-4DE823B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98E-0999-4F39-9580-F93003E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AED-EBA8-470B-AAF7-F7B3E5FEADEF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6A6-B237-4661-9FE9-3B75947D1249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267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3733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862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42900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4120" y="3809880"/>
            <a:ext cx="457200" cy="1752840"/>
          </a:xfrm>
          <a:custGeom>
            <a:avLst/>
            <a:gdLst>
              <a:gd name="textAreaLeft" fmla="*/ 61200 w 457200"/>
              <a:gd name="textAreaRight" fmla="*/ 396000 w 4572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740000">
            <a:off x="3352320" y="3505320"/>
            <a:ext cx="381240" cy="907920"/>
          </a:xfrm>
          <a:prstGeom prst="upArrow">
            <a:avLst>
              <a:gd name="adj1" fmla="val 50000"/>
              <a:gd name="adj2" fmla="val 59537"/>
            </a:avLst>
          </a:prstGeom>
          <a:solidFill>
            <a:srgbClr val="00008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1447920"/>
            <a:ext cx="60948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500000">
            <a:off x="5738760" y="2976480"/>
            <a:ext cx="380880" cy="1409760"/>
          </a:xfrm>
          <a:prstGeom prst="downArrow">
            <a:avLst>
              <a:gd name="adj1" fmla="val 50000"/>
              <a:gd name="adj2" fmla="val 92533"/>
            </a:avLst>
          </a:prstGeom>
          <a:solidFill>
            <a:srgbClr val="ffcc66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400000">
            <a:off x="3479400" y="3419280"/>
            <a:ext cx="380880" cy="1447560"/>
          </a:xfrm>
          <a:prstGeom prst="downArrow">
            <a:avLst>
              <a:gd name="adj1" fmla="val 50000"/>
              <a:gd name="adj2" fmla="val 95014"/>
            </a:avLst>
          </a:prstGeom>
          <a:solidFill>
            <a:srgbClr val="ff99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8148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clásica</a:t>
            </a: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2286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562720" y="9144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abstracta</a:t>
            </a: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9144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escul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4120" y="2438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3048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2209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5812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surrealista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30481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800600" y="1905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escul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2666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antigu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2590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monument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276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H="1" flipV="1">
            <a:off x="2819160" y="3276720"/>
            <a:ext cx="1600200" cy="45720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971800" y="3733920"/>
            <a:ext cx="1447920" cy="53316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3733920"/>
            <a:ext cx="1752840" cy="152388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1828440" y="2742840"/>
            <a:ext cx="762120" cy="60948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133720" y="3352680"/>
            <a:ext cx="457200" cy="19814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H="1" flipV="1">
            <a:off x="2437920" y="2209320"/>
            <a:ext cx="1295640" cy="12956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437920" y="2666520"/>
            <a:ext cx="1295640" cy="8384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90560" y="3505320"/>
            <a:ext cx="1143000" cy="121896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895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72200" y="34290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19520" y="914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19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352680"/>
            <a:ext cx="3504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219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mis</cp:lastModifiedBy>
  <dcterms:modified xsi:type="dcterms:W3CDTF">2008-02-19T18:57:17Z</dcterms:modified>
  <cp:revision>6</cp:revision>
  <dc:subject/>
  <dc:title>PowerPoint Presentation</dc:title>
</cp:coreProperties>
</file>